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F554-8605-4333-816F-B1853EC4C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667D-4BFC-436E-A0EA-CADE9AABFB0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250DC-9CD2-412F-8AA2-B2DD4D918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6AC7B-8AEC-4ACF-8A3F-DA09C2A2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6800A-C32F-40A9-8198-83F2B2783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A8A6B-F205-4C6D-A2D4-7C10479E4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0F42-3F75-47BE-B68A-BFBE96C33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E089-80AB-4B57-9D9C-B8B56F55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9E54-84C1-4367-90EF-F7C7E2D3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121D-B131-4D91-9623-F1386DE8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B58F-C5D7-4584-A7FD-B4FFD568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F4AE-48FF-44DC-834D-8BF47602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0B10-A9FA-46F8-9849-30A6BFD3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E3276-6FBF-4471-8C0B-BD65733D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3C8F-D17A-4461-B5D6-9E0EBAC1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402C-4FBF-41B6-A24E-8E7B2631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1048-E78F-4F21-90BB-E0D5613B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FD00-04DB-4674-8BB7-A10006C35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A8AA-577C-4F27-A505-33224736C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6CF24-8F92-42E1-A2D8-9A07254C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5BBA3-623E-48CD-B16F-27174A7B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3812C-1391-441B-937B-E80A7F51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3B33F-9A28-4747-A759-25E8706A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214E4-9646-4D4D-A9B5-5A74CBE2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631F1-1538-46C2-AB07-97B87955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D087E-4D42-4D63-A4DB-72FCFBB7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0A46-EFCB-48EF-BF37-B07EF1E2F75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F03D-62E9-4095-9B20-43AB5C430E5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-181080" y="228240"/>
            <a:ext cx="9325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  <a:ea typeface="Arial"/>
              </a:rPr>
              <a:t>13</a:t>
            </a:r>
            <a:r>
              <a:rPr b="1" lang="bg-BG" sz="4000" spc="-1" strike="noStrike">
                <a:solidFill>
                  <a:srgbClr val="e5e5ff"/>
                </a:solidFill>
                <a:latin typeface="Arial"/>
                <a:ea typeface="Arial"/>
              </a:rPr>
              <a:t>4</a:t>
            </a:r>
            <a:r>
              <a:rPr b="1" lang="en-US" sz="4000" spc="-1" strike="noStrike">
                <a:solidFill>
                  <a:srgbClr val="e5e5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e5e5ff"/>
                </a:solidFill>
                <a:latin typeface="Arial"/>
                <a:ea typeface="Arial"/>
              </a:rPr>
              <a:t>(495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e5e5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e5e5ff"/>
                </a:solidFill>
                <a:latin typeface="Arial"/>
                <a:ea typeface="Arial"/>
              </a:rPr>
              <a:t> . Блажен, блажен е тоз чове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e5e5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e5e5ff"/>
                </a:solidFill>
                <a:latin typeface="Arial"/>
                <a:ea typeface="Arial"/>
              </a:rPr>
              <a:t>на тоз свят и във век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e5e5ff"/>
                </a:solidFill>
                <a:latin typeface="Arial"/>
                <a:ea typeface="Arial"/>
              </a:rPr>
              <a:t>кой нечестивия съве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e5e5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e5e5ff"/>
                </a:solidFill>
                <a:latin typeface="Arial"/>
                <a:ea typeface="Arial"/>
              </a:rPr>
              <a:t>оставя без ответ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e5e5ff"/>
                </a:solidFill>
                <a:latin typeface="Arial"/>
                <a:ea typeface="Arial"/>
              </a:rPr>
              <a:t>Във път на грешни не сто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e5e5ff"/>
                </a:solidFill>
                <a:latin typeface="Arial"/>
                <a:ea typeface="Arial"/>
              </a:rPr>
              <a:t>от присмивач стран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e5e5ff"/>
                </a:solidFill>
                <a:latin typeface="Arial"/>
                <a:ea typeface="Arial"/>
              </a:rPr>
              <a:t>почита Божия зако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e5e5ff"/>
                </a:solidFill>
                <a:latin typeface="Arial"/>
                <a:ea typeface="Arial"/>
              </a:rPr>
              <a:t>смирен пред Негов тро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-252360" y="1199520"/>
            <a:ext cx="9648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  <a:ea typeface="Arial"/>
              </a:rPr>
              <a:t>2.</a:t>
            </a:r>
            <a:r>
              <a:rPr b="1" lang="bg-BG" sz="4000" spc="-1" strike="noStrike">
                <a:solidFill>
                  <a:srgbClr val="e5e5ff"/>
                </a:solidFill>
                <a:latin typeface="Arial"/>
                <a:ea typeface="Arial"/>
              </a:rPr>
              <a:t> Дървото както при вод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e5e5ff"/>
                </a:solidFill>
                <a:latin typeface="Arial"/>
                <a:ea typeface="Arial"/>
              </a:rPr>
              <a:t>расте на свобод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e5e5ff"/>
                </a:solidFill>
                <a:latin typeface="Arial"/>
                <a:ea typeface="Arial"/>
              </a:rPr>
              <a:t>тъй той под синий Божи свод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e5e5ff"/>
                </a:solidFill>
                <a:latin typeface="Arial"/>
                <a:ea typeface="Arial"/>
              </a:rPr>
              <a:t>расте и дава плод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e5e5ff"/>
                </a:solidFill>
                <a:latin typeface="Arial"/>
                <a:ea typeface="Arial"/>
              </a:rPr>
              <a:t>Не вехне неговият лист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e5e5ff"/>
                </a:solidFill>
                <a:latin typeface="Arial"/>
                <a:ea typeface="Arial"/>
              </a:rPr>
              <a:t>той всеки ден е чист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e5e5ff"/>
                </a:solidFill>
                <a:latin typeface="Arial"/>
                <a:ea typeface="Arial"/>
              </a:rPr>
              <a:t>остава вечно все зеле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e5e5ff"/>
                </a:solidFill>
                <a:latin typeface="Arial"/>
                <a:ea typeface="Arial"/>
              </a:rPr>
              <a:t>затуй е и блаж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-36360" y="1218600"/>
            <a:ext cx="9216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e5e5ff"/>
                </a:solidFill>
                <a:latin typeface="Arial"/>
                <a:ea typeface="Arial"/>
              </a:rPr>
              <a:t>3. Каквото върши, ще успе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e5e5ff"/>
                </a:solidFill>
                <a:latin typeface="Arial"/>
                <a:ea typeface="Arial"/>
              </a:rPr>
              <a:t>ще върши и ще пе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e5e5ff"/>
                </a:solidFill>
                <a:latin typeface="Arial"/>
                <a:ea typeface="Arial"/>
              </a:rPr>
              <a:t>А нечестивий с своя грях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e5e5ff"/>
                </a:solidFill>
                <a:latin typeface="Arial"/>
                <a:ea typeface="Arial"/>
              </a:rPr>
              <a:t>кат' плява е, кат' прах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e5e5ff"/>
                </a:solidFill>
                <a:latin typeface="Arial"/>
                <a:ea typeface="Arial"/>
              </a:rPr>
              <a:t>Не ще да устои във съд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e5e5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e5e5ff"/>
                </a:solidFill>
                <a:latin typeface="Arial"/>
                <a:ea typeface="Arial"/>
              </a:rPr>
              <a:t>погибел му е пъ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e5e5ff"/>
                </a:solidFill>
                <a:latin typeface="Arial"/>
                <a:ea typeface="Arial"/>
              </a:rPr>
              <a:t>и горе пред престола бял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e5e5ff"/>
                </a:solidFill>
                <a:latin typeface="Arial"/>
                <a:ea typeface="Arial"/>
              </a:rPr>
              <a:t>не ще да има дял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4-17T09:48:40Z</dcterms:modified>
  <cp:revision>62</cp:revision>
  <dc:subject/>
  <dc:title>Slide 1</dc:title>
</cp:coreProperties>
</file>